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44E96-7EF8-42EA-BE93-76E56B6F6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11FDE-2192-4B71-B745-ED1DD2174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FCA5D-97EC-4C47-B1E0-9ABAB04F8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CE79B-F629-415F-8830-6693EAEC7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20A33-672D-432E-A6EB-B37A30B3B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335F2-B3C3-417A-BD2D-409F35AB9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EC077-DB38-49E6-AB7F-F77309DF8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95099-2E70-48F3-A976-527855045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1E1B3-6184-4CA7-BAA8-482FBE3D1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B2FFC-53C0-49DF-B279-7F7F84B22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D87BB-1253-4F48-8716-CF8584A79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F7ECD-49A9-4E38-8E40-C51EED075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6360A-0594-452D-ACD9-CCD6B7C6A3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900" spc="-1" strike="noStrike">
                <a:solidFill>
                  <a:srgbClr val="000000"/>
                </a:solidFill>
                <a:latin typeface="Calibri"/>
              </a:rPr>
              <a:t>How Much Water Is Used (in gallons)?</a:t>
            </a:r>
            <a:endParaRPr b="0" lang="en-US" sz="7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3"/>
          <p:cNvSpPr/>
          <p:nvPr/>
        </p:nvSpPr>
        <p:spPr>
          <a:xfrm>
            <a:off x="716760" y="2514600"/>
            <a:ext cx="7787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Chalkboard"/>
              </a:rPr>
              <a:t>How many gallons when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Chalkboard"/>
              </a:rPr>
              <a:t>taking a shower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3"/>
          <p:cNvSpPr/>
          <p:nvPr/>
        </p:nvSpPr>
        <p:spPr>
          <a:xfrm>
            <a:off x="2501280" y="2997360"/>
            <a:ext cx="4140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Chalkboard"/>
              </a:rPr>
              <a:t>25-50 gallon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3"/>
          <p:cNvSpPr/>
          <p:nvPr/>
        </p:nvSpPr>
        <p:spPr>
          <a:xfrm>
            <a:off x="678600" y="2558880"/>
            <a:ext cx="7787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Chalkboard"/>
              </a:rPr>
              <a:t>How many gallons when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Chalkboard"/>
              </a:rPr>
              <a:t>taking a bath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3"/>
          <p:cNvSpPr/>
          <p:nvPr/>
        </p:nvSpPr>
        <p:spPr>
          <a:xfrm>
            <a:off x="2948400" y="2997360"/>
            <a:ext cx="3245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Chalkboard"/>
              </a:rPr>
              <a:t>50 gallon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3"/>
          <p:cNvSpPr/>
          <p:nvPr/>
        </p:nvSpPr>
        <p:spPr>
          <a:xfrm>
            <a:off x="321840" y="2170080"/>
            <a:ext cx="85003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Chalkboard"/>
              </a:rPr>
              <a:t>How many gallons to wash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Chalkboard"/>
              </a:rPr>
              <a:t>a small load of laundry in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Chalkboard"/>
              </a:rPr>
              <a:t>a washing machine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3"/>
          <p:cNvSpPr/>
          <p:nvPr/>
        </p:nvSpPr>
        <p:spPr>
          <a:xfrm>
            <a:off x="2948400" y="2997360"/>
            <a:ext cx="3245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Chalkboard"/>
              </a:rPr>
              <a:t>35 gallon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3"/>
          <p:cNvSpPr/>
          <p:nvPr/>
        </p:nvSpPr>
        <p:spPr>
          <a:xfrm>
            <a:off x="-485280" y="2170080"/>
            <a:ext cx="10178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Chalkboard"/>
              </a:rPr>
              <a:t>How many gallons when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Chalkboard"/>
              </a:rPr>
              <a:t>brushing your teeth and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Chalkboard"/>
              </a:rPr>
              <a:t>running the water continuously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2851200" y="2997360"/>
            <a:ext cx="3441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Chalkboard"/>
              </a:rPr>
              <a:t>2-5 gallon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3"/>
          <p:cNvSpPr/>
          <p:nvPr/>
        </p:nvSpPr>
        <p:spPr>
          <a:xfrm>
            <a:off x="237240" y="2514600"/>
            <a:ext cx="8669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Chalkboard"/>
              </a:rPr>
              <a:t>How many gallons of water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Chalkboard"/>
              </a:rPr>
              <a:t>to flush a toilet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3"/>
          <p:cNvSpPr/>
          <p:nvPr/>
        </p:nvSpPr>
        <p:spPr>
          <a:xfrm>
            <a:off x="2851200" y="2997360"/>
            <a:ext cx="3441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Chalkboard"/>
              </a:rPr>
              <a:t>5-7 gallon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3"/>
          <p:cNvSpPr/>
          <p:nvPr/>
        </p:nvSpPr>
        <p:spPr>
          <a:xfrm>
            <a:off x="1192680" y="2558880"/>
            <a:ext cx="6747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Chalkboard"/>
              </a:rPr>
              <a:t>How many gallons to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Chalkboard"/>
              </a:rPr>
              <a:t>run a dishwasher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3"/>
          <p:cNvSpPr/>
          <p:nvPr/>
        </p:nvSpPr>
        <p:spPr>
          <a:xfrm>
            <a:off x="2501280" y="2997360"/>
            <a:ext cx="4140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Chalkboard"/>
              </a:rPr>
              <a:t>15-25 gallon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3"/>
          <p:cNvSpPr/>
          <p:nvPr/>
        </p:nvSpPr>
        <p:spPr>
          <a:xfrm>
            <a:off x="321840" y="2612880"/>
            <a:ext cx="8500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Chalkboard"/>
              </a:rPr>
              <a:t>How many gallons to wash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Chalkboard"/>
              </a:rPr>
              <a:t>dishes by hand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2948400" y="2997360"/>
            <a:ext cx="3245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Chalkboard"/>
              </a:rPr>
              <a:t>20 gallon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3"/>
          <p:cNvSpPr/>
          <p:nvPr/>
        </p:nvSpPr>
        <p:spPr>
          <a:xfrm>
            <a:off x="1203840" y="2558880"/>
            <a:ext cx="6747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Chalkboard"/>
              </a:rPr>
              <a:t>How many gallons to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Chalkboard"/>
              </a:rPr>
              <a:t>water a small lawn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3"/>
          <p:cNvSpPr/>
          <p:nvPr/>
        </p:nvSpPr>
        <p:spPr>
          <a:xfrm>
            <a:off x="2948400" y="2997360"/>
            <a:ext cx="3245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Chalkboard"/>
              </a:rPr>
              <a:t>35 gallon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5T19:41:16Z</dcterms:created>
  <dc:creator> </dc:creator>
  <dc:description/>
  <dc:language>en-US</dc:language>
  <cp:lastModifiedBy> </cp:lastModifiedBy>
  <dcterms:modified xsi:type="dcterms:W3CDTF">2010-10-15T19:41:38Z</dcterms:modified>
  <cp:revision>1</cp:revision>
  <dc:subject/>
  <dc:title>How Much Water Is Used (in gallons)?</dc:title>
</cp:coreProperties>
</file>